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895-0497-4C70-B10B-AC65B02A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5A3-66BB-4363-9A8E-8B5D8098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9D6-8D83-446D-AA62-3427A08F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4D4-9C41-4375-98FE-0168BAA4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A2F0-CE7D-4307-AE52-F3605B5C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BB08-D35D-4B2C-B895-203812C6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CFF5-1BEC-4E76-BA6C-39EFD8E6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FCE9-2899-4461-B49B-480D990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75CC-E997-4056-B06C-859A4EC1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AD43-130F-46B2-BA6D-4AD7AFD8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6350-B65C-4A09-9592-3E2614C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F03-115B-4D2A-B6D7-D22BA5EC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6329-E7F7-40D9-962C-0031517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B555-0545-4EBF-9A32-C98B50B0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71AF-6730-4435-B533-92E81C0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665A-C5C2-4D19-9274-B5CFB4C6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EA55-975F-445E-98C5-2B5B5C81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180-EC2C-4555-9F84-3831621A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CAF-3671-4DDD-B347-628B8654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90C-87CD-4892-8193-644562C1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7B6-7D64-49CA-8195-11B08A57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0CD-A9B4-48FC-8818-B82C8809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C2F-B794-4376-9151-CE442DA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D32-98BE-4AAC-AFAF-0DA948F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D7C6-F4F2-483B-88F7-4A242668D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54B5-A86A-49ED-967B-58446FE26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280"/>
            <a:ext cx="91440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38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8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O requerimento de autorização de lavra será dirigido ao Ministro de Minas e Energia, pelo titular da autorização de pesquisa, ou seu sucessor, e deverá ser instruído com os seguintes elementos de informação e prov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certidão de registro no Departamento Nacional de Registro do Comércio, da entidade constituíd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 - designação das substâncias minerais a lavrar, com indicação do Alvará de Pesquisa outorgado, e de aprovação do respectivo Relatóri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I - denominação e descrição da localização do campo pretendido para a lavra, relacionando-o, com precisão e clareza, aos vales dos rios ou córregos, constantes de mapas ou plantas de notória autenticidade e precisão, e estradas de ferro e rodovias, ou, ainda, a marcos naturais ou acidentes topográficos de inconfundível determinação; suas confrontações com autorização de pesquisa e concessões de lavra vizinhas, se as houver, e indicação do Distrito, Município, Comarca e Estado, e, ainda, nome e residência dos proprietários do solo ou posseiro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 - definição gráfica da área pretendida, delimitada por figura geométrica formada, obrigatoriamente, por segmentos de retas com orientação Norte-Sul e Leste-Oeste verdadeiros, com 2 (dois) de seus vértices, ou excepcionalmente 1 (um), amarrados a ponto fixo e inconfundível do terreno, sendo os vetores de amarração definidos por seus comprimentos e rumos verdadeiros, e configuradas, ainda, as propriedades territoriais por ela interessadas, com os nomes dos respectivos superficiários, além de planta de situação;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447920"/>
            <a:ext cx="8702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- servidões de que deverá gozar a min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 - plano de aproveitamento econômico da jazida, com descrição das instalações de beneficiament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I - prova de disponibilidade de fundos ou da existência de compromissos de financiamento, necessários para execução do plano de aproveitamento econômico e operação da min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Quando tiver por objeto área situada na faixa de fronteira, a concessão de lavra fica sujeita aos critérios e condições estabelecidas 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lei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7:51Z</dcterms:modified>
  <cp:revision>63</cp:revision>
  <dc:subject/>
  <dc:title>Apresentação do PowerPoint</dc:title>
</cp:coreProperties>
</file>